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91E-125C-409C-9B2A-1760FF79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33B-FB03-49DE-8EBD-F3CB23FC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3C5-7D38-4790-A9A2-7C6C2891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636-22CE-4012-8F1A-9AE7D53B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FAD-ED65-488A-AF45-B81A0CC4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AB6-3700-4447-AD3B-3A9AEF10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FDA-1CDD-48E4-99C3-86C39019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EED-D7F5-4BCF-B5A7-3D98CDEF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99C-A3EA-4970-AC47-A0F853A0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A4B-4DA2-4DDE-9EF0-2B2DBCB9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0CC-AA2A-49BC-9456-7B244757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EA1-B045-4095-B5F6-A69E8539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ABF2-AD8B-4DCE-AC2F-7E66D327B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pemberton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68760" y="609480"/>
            <a:ext cx="59436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CA COLA !!!!</a:t>
            </a:r>
            <a:endParaRPr b="0" lang="en-US" sz="18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3886200"/>
            <a:ext cx="4419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ienn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emberton"/>
          <p:cNvPicPr/>
          <p:nvPr/>
        </p:nvPicPr>
        <p:blipFill>
          <a:blip r:embed="rId2"/>
          <a:stretch/>
        </p:blipFill>
        <p:spPr>
          <a:xfrm>
            <a:off x="380880" y="609480"/>
            <a:ext cx="1981440" cy="266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5562720"/>
            <a:ext cx="47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emberton.html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 Lamelson- mit program, coca cola 3/9/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91120"/>
            <a:ext cx="5257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ouncy vibes,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arch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219320" y="4495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1.44509E-006 C 0.00069 0.00856 -0.00018 0.01734 0.00156 0.02544 C 0.00486 0.04093 0.01718 0.04509 0.02725 0.04879 C 0.05225 0.04624 0.07222 0.04578 0.09531 0.03815 C 0.09756 0.03468 0.09878 0.03006 0.10173 0.02752 C 0.10433 0.02497 0.10815 0.0252 0.11128 0.02335 C 0.11493 0.02104 0.11857 0.01734 0.12222 0.0148 C 0.12604 0.01249 0.12968 0.01064 0.1335 0.00856 C 0.15173 -0.02081 0.15989 -0.04994 0.16683 -0.0867 C 0.17013 -0.14058 0.16545 -0.19676 0.146 -0.24508 C 0.14079 -0.2585 0.12881 -0.28902 0.11753 -0.30011 C 0.10329 -0.31422 0.08194 -0.31676 0.0651 -0.32347 C 0.04496 -0.32277 0.02499 -0.32439 0.00486 -0.32115 C -0.02084 -0.31699 -0.04011 -0.30682 -0.06355 -0.29595 C -0.07257 -0.28254 -0.08021 -0.26728 -0.09046 -0.25572 C -0.10799 -0.23584 -0.12188 -0.22196 -0.13646 -0.19653 C -0.15174 -0.16994 -0.16337 -0.13526 -0.17466 -0.10566 C -0.17848 -0.04809 -0.18976 0.01179 -0.18403 0.06983 C -0.17414 0.16648 -0.11928 0.24948 -0.05556 0.29179 C -0.03768 0.30359 0.03645 0.32093 0.04618 0.32347 C 0.11406 0.31353 0.18072 0.29619 0.24774 0.27908 C 0.29444 0.22682 0.35729 0.16833 0.38576 0.09087 C 0.40086 0.05018 0.42222 -0.03584 0.42222 -0.03584 C 0.42447 -0.05549 0.42968 -0.07514 0.42864 -0.09503 C 0.42222 -0.22104 0.37847 -0.28277 0.30642 -0.35514 C 0.2802 -0.3815 0.22083 -0.43815 0.18906 -0.45665 C 0.08437 -0.51676 -0.03091 -0.5237 -0.14289 -0.52832 C -0.27014 -0.52162 -0.31042 -0.52508 -0.41893 -0.47561 C -0.45209 -0.43838 -0.47813 -0.40115 -0.50626 -0.35722 C -0.51146 -0.33318 -0.51459 -0.30821 -0.52205 -0.28532 C -0.53004 -0.26058 -0.54514 -0.24069 -0.55226 -0.21549 C -0.56129 -0.18381 -0.56389 -0.14936 -0.56962 -0.1163 C -0.57414 0.04463 -0.58369 0.20578 -0.53004 0.35515 C -0.52396 0.37202 -0.49393 0.44023 -0.47778 0.45665 C -0.44376 0.49064 -0.40747 0.50844 -0.36806 0.52648 C -0.28976 0.56231 -0.31858 0.55307 -0.23803 0.55815 C -0.21025 0.55584 -0.12518 0.55214 -0.09827 0.5348 C -0.03369 0.49318 0.09496 0.37919 0.13663 0.28971 C 0.2776 -0.01248 0.0717 0.38243 0.20312 0.13526 C 0.21249 0.05411 0.2276 -0.03653 0.21111 -0.11838 C 0.19305 -0.20832 0.14635 -0.28393 0.09687 -0.34659 C -0.00105 -0.47121 -0.12917 -0.58381 -0.2665 -0.61087 C -0.29705 -0.61688 -0.32796 -0.61364 -0.35851 -0.61503 C -0.40556 -0.60809 -0.45278 -0.60254 -0.50001 -0.59399 C -0.52292 -0.58982 -0.54827 -0.59237 -0.56806 -0.57711 C -0.66823 -0.50011 -0.67952 -0.44647 -0.72049 -0.32115 C -0.7698 -0.1704 -0.72639 -0.32324 -0.77119 -0.1563 C -0.77657 -0.0437 -0.78299 0.00994 -0.76337 0.13526 C -0.75764 0.17202 -0.74271 0.20532 -0.73004 0.23885 C -0.61841 0.53619 -0.40018 0.63676 -0.1698 0.6807 C -0.10886 0.67237 -0.04723 0.67145 0.01284 0.65549 C 0.04305 0.64763 0.14444 0.57272 0.16527 0.55191 C 0.18663 0.53018 0.2019 0.49896 0.22239 0.47561 C 0.24791 0.44601 0.27621 0.42081 0.30312 0.3933 C 0.34531 0.29226 0.37708 0.20809 0.40173 0.09734 C 0.40746 0.01665 0.41805 -0.03699 0.39843 -0.1163 C 0.38402 -0.17526 0.33194 -0.26474 0.30486 -0.30867 C 0.24548 -0.40485 0.19218 -0.4615 0.09687 -0.51584 C 0.071 -0.53063 0.04652 -0.55098 0.01927 -0.56023 C -0.02622 -0.57549 -0.11858 -0.57688 -0.16667 -0.57919 C -0.20157 -0.57295 -0.23751 -0.57318 -0.27136 -0.56023 C -0.29914 -0.54959 -0.32275 -0.52508 -0.34914 -0.50936 C -0.37987 -0.4911 -0.41164 -0.47561 -0.44271 -0.45873 C -0.46025 -0.42705 -0.47605 -0.39329 -0.49497 -0.36347 C -0.51251 -0.33618 -0.53594 -0.31584 -0.55226 -0.2874 C -0.56702 -0.26173 -0.57553 -0.23098 -0.58716 -0.20277 C -0.60539 -0.09896 -0.6198 -0.06219 -0.59497 0.05711 C -0.58733 0.09434 -0.56598 0.12393 -0.5507 0.15653 C -0.48768 0.28902 -0.33942 0.38104 -0.22692 0.40809 C -0.20035 0.41434 -0.17292 0.41087 -0.14601 0.41226 C -0.09983 0.40601 -0.0533 0.40463 -0.00782 0.3933 C 0.00121 0.39098 0.00659 0.37873 0.0144 0.37202 C 0.02933 0.35885 0.04496 0.34682 0.06041 0.33411 C 0.096 0.26682 0.10694 0.22289 0.12222 0.14382 C 0.1309 0.03838 0.12725 -0.01503 0.08593 -0.10982 C 0.06423 -0.15907 0.0526 -0.22358 0.01614 -0.25364 C -0.02396 -0.2867 -0.05382 -0.31584 -0.09983 -0.33387 C -0.11997 -0.34173 -0.14115 -0.34243 -0.16181 -0.34659 C -0.18282 -0.34358 -0.27171 -0.33826 -0.30157 -0.31491 C -0.32518 -0.29618 -0.36511 -0.24508 -0.36511 -0.24508 C -0.39688 -0.16046 -0.36511 -0.07861 -0.31737 -0.01688 C -0.29497 0.01202 -0.27084 0.03815 -0.2474 0.06567 C -0.21303 0.10636 -0.12223 0.11676 -0.07778 0.12046 C -0.02709 0.11445 0.00624 0.10058 0.04947 0.06775 C 0.07326 -0.00902 0.06666 0.02544 0.07482 -0.03376 C 0.0684 -0.09965 0.0368 -0.17711 -0.01251 -0.20069 C -0.04601 -0.1963 -0.05244 -0.19977 -0.06962 -0.16069 C -0.07674 -0.14497 -0.08889 -0.11191 -0.08889 -0.11191 C -0.08855 -0.10358 -0.09063 -0.04717 -0.08403 -0.0252 C -0.079 -0.00832 -0.05469 0.01734 -0.04115 0.02335 C -0.02952 0.01827 -0.02553 0.00231 -0.01719 -0.00832 C -0.01476 0.00509 -0.01389 0.00416 -0.00296 0.00648 C -0.00192 0.00856 -6.66667E-006 0.01272 -6.66667E-006 0.01272 E">
                                      <p:cBhvr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ontemporary Coca Cola Can"/>
          <p:cNvPicPr/>
          <p:nvPr/>
        </p:nvPicPr>
        <p:blipFill>
          <a:blip r:embed="rId2"/>
          <a:stretch/>
        </p:blipFill>
        <p:spPr>
          <a:xfrm rot="1435800">
            <a:off x="762120" y="1143000"/>
            <a:ext cx="200952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0" y="0"/>
            <a:ext cx="64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: inventions,3/9/20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ventors.about.com/od/cstartinventions/a/coca_col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350496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472428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 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85 Pemberton mixed a version of syrup in a brass kettle in his backy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made a soft drink called “coca col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ntained extracts of Kola nuts, a rich source of caffeine, and sugar for sweetening instead of w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88 Pemberton sold his rights to “coca cola” for the sum of $1,750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1831 in Knoxville, Geo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practiced medicine and surgery early in his car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earned his medical degree at the age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ater opened his own drug store In Columbus,Go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ater died in 188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ermton died a man named Giggs Candler took over Pemberton’s entire busines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333 0.15075 C -0.81181 0.11953 -0.7283 0.12971 -0.65625 0.1274 C -0.55938 0.12069 -0.46267 0.10913 -0.3658 0.10011 C -0.33715 0.09757 -0.30868 0.09433 -0.28003 0.09156 C -0.26684 0.0904 -0.25365 0.08901 -0.24045 0.0874 C -0.23038 0.08624 -0.21024 0.083 -0.21024 0.08323 C -0.1974 0.07584 -0.18576 0.07537 -0.17222 0.07052 C -0.15191 0.06335 -0.1309 0.04647 -0.11181 0.03445 C -0.10069 0.02751 -0.08802 0.02451 -0.07691 0.01757 C -0.07326 0.01526 -0.03194 -0.0148 -0.02448 -0.02266 C -0.01979 -0.02752 -0.01493 -0.0326 -0.01024 -0.03746 C -0.00677 -0.04116 -0.00069 -0.05018 -0.00069 -0.04995 C 0.0033 -0.06636 -0.00469 -0.07607 -0.0151 -0.08185 C -0.02378 -0.08671 -0.03108 -0.09873 -0.04045 -0.10081 C -0.05469 -0.10382 -0.04687 -0.10243 -0.06424 -0.10497 C -0.09757 -0.12324 -0.1684 -0.11214 -0.19288 -0.11145 C -0.29549 -0.10821 -0.39809 -0.10451 -0.50069 -0.10289 C -0.5184 -0.10151 -0.53559 -0.09989 -0.5533 -0.09665 C -0.56146 -0.09203 -0.56979 -0.08971 -0.57847 -0.08601 C -0.58056 -0.08393 -0.58264 -0.08162 -0.5849 -0.07977 C -0.58628 -0.07862 -0.58819 -0.07862 -0.58958 -0.07746 C -0.6 -0.0689 -0.60903 -0.05226 -0.61667 -0.03954 C -0.61771 -0.03538 -0.61892 -0.03122 -0.61979 -0.02682 C -0.62101 -0.01989 -0.62309 -0.00578 -0.62309 -0.00555 C -0.62205 0.01433 -0.61979 0.05572 -0.60729 0.0726 C -0.59149 0.09341 -0.57031 0.10844 -0.55156 0.12323 C -0.53924 0.13294 -0.52847 0.14636 -0.5151 0.15283 C -0.49097 0.16439 -0.46806 0.17873 -0.44358 0.1889 C -0.43472 0.1926 -0.42569 0.19607 -0.41667 0.1993 C -0.40764 0.20254 -0.39844 0.20439 -0.38958 0.20786 C -0.38038 0.21156 -0.3717 0.21664 -0.36267 0.22058 C -0.35 0.22589 -0.33733 0.23075 -0.32448 0.23537 C -0.29618 0.24531 -0.26962 0.25456 -0.24045 0.25849 C -0.16476 0.28393 -0.08906 0.30728 -0.0151 0.34104 C 0.0059 0.35075 0.02552 0.35884 0.04531 0.37271 C 0.05955 0.38266 0.07014 0.39699 0.08333 0.40855 C 0.08542 0.41526 0.08819 0.42219 0.08819 0.42982 C 0.08819 0.44277 0.06545 0.4756 0.05955 0.48485 C 0.02726 0.53479 0.07378 0.47005 0.03733 0.51445 C 0.02639 0.52786 0.02031 0.54589 0.00885 0.55884 C -0.0092 0.57942 -0.03038 0.58936 -0.05312 0.59468 C -0.07899 0.60925 -0.11007 0.6 -0.13559 0.58612 C -0.15069 0.5778 -0.1658 0.56948 -0.18003 0.55884 C -0.19531 0.54751 -0.20191 0.53595 -0.21337 0.51861 C -0.23073 0.49202 -0.24844 0.46867 -0.26146 0.43815 C -0.26267 0.43052 -0.26458 0.42289 -0.26597 0.41503 C -0.26719 0.4067 -0.26736 0.39792 -0.26892 0.38959 C -0.27153 0.37595 -0.27569 0.363 -0.27847 0.34936 C -0.27795 0.32555 -0.2783 0.3015 -0.27708 0.27768 C -0.27552 0.25387 -0.25469 0.22474 -0.24201 0.20994 C -0.22101 0.1852 -0.19792 0.1741 -0.17222 0.1593 C -0.15816 0.15121 -0.14531 0.13896 -0.1309 0.13179 C -0.12326 0.12809 -0.1151 0.1274 -0.10712 0.12531 C -0.08194 0.11167 -0.05451 0.10196 -0.02778 0.09572 C -0.00469 0.08277 0.02205 0.07838 0.04688 0.07468 C 0.06302 0.06936 0.07795 0.06474 0.09444 0.06196 C 0.1099 0.05318 0.12066 0.04393 0.13108 0.02612 C 0.13281 0.01387 0.13403 0.0111 0.13108 -0.00347 C 0.12917 -0.01249 0.11215 -0.01573 0.10712 -0.01619 C 0.09236 -0.01734 0.07743 -0.01758 0.06267 -0.01827 C 0.04323 -0.02104 0.02465 -0.01619 0.00556 -0.01619 E">
                                      <p:cBhvr>
                                        <p:cTn id="13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1:14Z</dcterms:created>
  <dc:creator>install</dc:creator>
  <dc:description/>
  <dc:language>en-US</dc:language>
  <cp:lastModifiedBy>install</cp:lastModifiedBy>
  <dcterms:modified xsi:type="dcterms:W3CDTF">2010-03-18T13:42:26Z</dcterms:modified>
  <cp:revision>12</cp:revision>
  <dc:subject/>
  <dc:title>Slide 1</dc:title>
</cp:coreProperties>
</file>